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5D25-AA00-447D-A038-CBAE31E0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AB2E-877B-41DC-9FE1-79B99B96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2F76A-AE00-4B47-A674-3302DE0D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CE5FE-D48A-436E-A56B-12EE3E74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24511-4863-4320-A445-8DAC22C0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306AD-FB89-4D3B-B9A5-97840B35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EE4E5-AC7D-4EB9-87E2-52F58712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2FDAA-70B2-4865-A1D1-1A96DEBD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27E69-1D6B-41F8-990C-6016AC69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4BB70-DBEC-4F59-8F70-326E7A248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F711B-5E42-494F-8FE5-080E3DAD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BCBC3-162B-4D46-B21D-AE109132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221D-FF01-46C3-B559-14DBA009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5E2FA-F690-425C-92A7-2440F0EE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EB662-8462-4511-9425-E4EFCA90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4E707-910E-4B71-9642-E178E486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4108B-0BF7-4356-B7CD-71F0B3EF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3F427-44E0-47EE-BAB3-70AB91A3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A0B86-5FE5-4795-8441-2099D9FA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467F7-2F2B-46E7-8D82-B7F0C511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103A2-AB89-48B0-AA98-8136CAFB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C1C1F-A4D7-489F-AA70-32D9EC12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71181-147A-4E45-862A-66D15AB8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8173-0970-4602-88F9-F27E0A69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3775B-7636-4A07-8B1D-6383FFB7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E40BE-B749-47A7-9549-1F71875F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21D3D-21B8-446E-BDBE-4EF953BB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E6DD2-D3D4-4D39-B470-D6BA2C8E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88222-3688-4CA7-BCF5-679C7DF5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4FBD4-3C47-4A44-8975-571F6811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6A957-2B40-4AF4-A7CA-8E1EBBF9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427D7-C2A7-415D-BB56-06227687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EC3E2-8FF2-481D-8B6F-9EC6DA6E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809A4-1E58-4DAB-8E54-1E00706D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76B0-C777-4609-AE76-B7FF495B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133C6-22BE-4101-B47D-0D67A6CF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0240F-B960-40F7-BE65-EE096CD9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C6FFB-D68D-45DD-A424-88D80C2A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307A2-D6DE-4849-9697-EB1AF60A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D7FD9-542E-4F76-AFEC-D9F508C0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C8197-F548-4184-92F2-ABA97EDD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3EADE-805E-4BB9-8A05-3414313E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7F748-50A5-4F9D-BD1A-B84DFEB8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696AD-717A-4D72-97EE-02EE7718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44ABC-F56A-43A8-B6D4-A81478D4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38D9-1084-43F6-8E16-6200D157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0FD37-63CA-4E42-9A82-B8202E43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5B1BC-D9EA-4522-AB6F-C0FCA461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5FBB0-A95D-48EC-97CB-F1854D41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D1408-164E-4B10-8CA3-B3BF0B0C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F0457-5A59-41DF-94BC-10DBA50D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ACB2DF-4485-43C7-BCC0-50AC4BADA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8B3575-B421-4E93-AEC9-E5F4762F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0989E2-4228-434A-8E5F-19358034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4D73A6-ECA8-4332-B2CC-84968DEB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8BCD19-400F-46D1-AE94-222E9ED3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4B33-070E-455E-8320-977FDBDC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358B6F-F669-4FD2-A3C5-4D0A1B3E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D65EA4-75A5-49EE-B565-354C374C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DD6708-C32F-4869-8745-F75A4738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60130D-AE92-4F13-805C-3EB666B2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D4F371-AC63-4B51-81CE-38E5384E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D59981-28A7-4508-9A88-6E11EFEB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1BBCF6-693B-42C9-828F-CE2EE462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05A02E-9DF1-4F78-B142-496F9BA1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46A450-82F0-47DC-906C-30EC9BD4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1776F3-B5FE-4C87-A476-0604382B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9259-6A50-4F24-8958-67EEC11B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5854A6-BCCF-4F9D-87D7-8DB41331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D889FA-D56F-48B6-8CC6-24E98913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EB850A-E83A-4C4C-AA9B-D457FF8A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F20669-FDEC-4F78-81C0-D2EA519A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32841E-81FB-47CF-803D-75849338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452036-9092-464E-B9B8-B2138FAB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9AF570-50AC-4BEB-872C-AFF5A431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530D36-E13C-435A-A017-15527CCC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FAB89D-D869-4697-8DE4-798F5E41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85BC70-02AB-4A88-9DAE-5C8C604C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25BA-E070-461F-805F-F92722FD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A6495F-AB8D-4556-A2BD-4802879A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FAD896-C33C-423B-93CB-B5F6CB75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D5DE11-5988-418C-9D13-2C836F4B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644F99-8B73-46B4-80C7-7FDBC12A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2DFA9E-A0E3-4064-A990-0A249A6C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D6F049-5BFD-4416-95E3-9A90239D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84C756-1656-4042-B433-9C14CABF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50EFEC-FA18-4C21-BA56-82EF068E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131A2D-FC0F-4499-BD9D-4B9204EA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8CAABB-A986-41EC-9E21-6E248F90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68CD-D12C-41F2-A2F7-770268DA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8036EA-5894-4457-B63F-881DD6DD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290604-2EB6-4BEC-8821-F22FB7DE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3AA99D-A858-468E-8CAE-005775A2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F0CB3D-96C8-444F-9231-6B777806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13650A-9AD4-4634-9710-039FD420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4A05AE-491D-4BE8-AF93-A283DD50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AA097E-FF6F-442F-8AAA-06C8E0ED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35B648-47A4-4ED6-8233-4E2DDA96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C9416E-94BC-4599-907E-077B80ED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E4C101-95B1-4776-B3DB-4A3923B9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6B3C-3684-440C-9347-66098FEE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F7B959-26B7-4B72-BACC-D8D00888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6454DD-5C1E-4697-8B45-C4A17F4C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09674B-CD18-4B93-9141-5B94FE1F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E00229-1767-4659-A88D-C1FAC3FB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1EEE27-95D1-4826-94D1-220DC2D0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3C474D-7933-41E9-99B8-24FF60F5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9482DF-DF4D-4937-97A9-26D3AB6E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EE9452-DD05-4C2B-A556-101C7E11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0A94CB-3C8D-4C49-80AD-E12084FF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12F73F-FD7A-4FC6-880D-207C511E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1BF3-B5D6-4E7B-91DC-33D29CA3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2BBD-F5F6-4B2E-9E08-9CF38D16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53DFE5-3FF2-4312-97D3-A7200D57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650595-40A1-46FC-83F8-FE3E5D5B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5A35F9-2C7F-4DEF-905A-9DF2B78B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403470-0925-4190-A59B-26D1DD9C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C37DEB-3B3F-44A0-8406-25B8A497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8AE4A3-6E38-4068-B81D-D94BA333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55C7E7-21A8-4EE4-B81C-2F00E584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B6882E-D836-40A2-B5DD-B433889B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2C8146-1A48-416F-A835-8EDAEC4A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816920-4E89-4991-A0CB-1D034F04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7CA9-34CA-444E-A197-CDA9D1D2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F1FAF0-B6EF-4E2E-96E7-06FF0A2A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2228F1-DE84-4646-AE6C-C979AADE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5D82B4-FD3B-4758-BB6F-E801F8A7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B5241C-CF22-48BE-9FAC-2C582EA4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41047D-C569-4820-9CA0-49A6C72C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02FD0A-FDA8-4E89-B092-4645C9D7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159859-21DC-481F-96F2-78A5C11C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32A70E-7ED3-47D4-B066-F51D0844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384A8E-49B7-467A-B547-C347E886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2F0596-3A0B-4A28-A7C9-F8A0B975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25D6-8758-42DB-857D-C31CC166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FB7E44-6A19-4E8F-B418-CF8DD341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EEF05E-215E-4159-B5DB-E4A5C73B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3A0896-3577-4913-B967-480BC485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CE4A10-9C54-4F68-9B27-73E52CD8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7DAB9F-19BF-43CC-BE15-26DE76DD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F7CB99-F7E3-4826-974E-6DC494C0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D9A5AB-155D-4410-A33F-8A560321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C7028A-1856-4799-959C-4AE5B084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086109-1DC3-471D-B236-B190B401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CBF1FC-1645-430D-9A9D-74DD6FDE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FE4E-4195-4477-A39B-C2E8AAE51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734CEA-24A9-49FF-BA14-7F2D73A0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FD3300-ED2F-4EF7-87E8-B7CF6925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6F65CB-58A2-4BA4-8ECC-0D99DA83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CFC089-A007-4123-85EF-85BA394B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736DCE-0DCD-432F-BDF1-2945711A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2EA3DF-B766-4460-B5AA-C29C2184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C4083E-022E-45BA-BAAE-ACC775D7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EE0C2D-A979-4DC4-B2D6-1E384425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D799DB-0E02-40DA-A927-6364EA41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61B610-25C9-4EAC-89DB-29F34541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239C-DE40-4340-8583-54913EF6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2835B3-047B-4446-ACA1-565F8BF3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597CA2-AE28-4C9D-A7AE-56016BE4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6D0A7A-A29C-44E5-8687-2FFE3A35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8B101B-1AA4-4546-8AE4-15E1F262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D8366E-6384-4D49-89DC-95E45513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0014E7-65E7-42B5-89E1-25C99A96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F09CDE-17CB-47BF-A5D9-277261EC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9E3B5E-4C79-4400-88E5-EA3988AB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D13587-3E79-442F-99B4-C7D01FBD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B5CFE4-EE13-4100-8B38-3DAB234E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DDFEA-290E-4781-8C4B-5C6F67A5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7F8A11-88C7-4DD7-B9DA-040E7E98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36BB22-216A-4844-BF78-206F2C6E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C9F6C2-0136-4FF2-ABD1-859B21B1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AC688-DA88-4FC1-8A8A-77C4FAA4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A5F37-9724-4A9C-B761-E6505DA5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3006E-A503-43A5-9866-3A2290E4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1E548-7253-4169-B360-4B58A9F5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9563-E98B-4A4D-AA2A-48C2BC72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9D05E-8AAF-4503-B63D-64218A9C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D71CC-405C-4A3C-9749-1B16BC85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785F5-0CEC-4E92-9F46-81C3BB8F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E7A6C-64B7-469A-B609-4C6DA709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8CA4A-F6B4-4823-89CC-4970AF96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C15A3-1402-4F72-940D-3E69D749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83186-43BD-4561-AE01-36D419FF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91D31-8813-442C-B63D-2C03A466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FCCB7-5D11-4295-B93B-370814D4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359F7-0DE6-4A75-88D8-7113A79F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F47A-F066-49E2-ADB5-DC24C27E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CBECD-5F46-45A3-BAD4-2749FEBD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3C8BF-0E9C-484E-BF51-17CD829B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70749-4068-4135-B803-45A191F0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501C8-7F75-45D2-B37B-8B5EE198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22429-B946-46F2-93F3-C9A63F54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EB555-DA30-4905-A966-8ACC7964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8C42C-ACC0-4CDE-BA22-5008838F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04867-DC8D-4FA1-83BA-8118B4C1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0359B-9CEC-4BFF-88D6-234D5667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A1FFC-6896-464F-9304-F72894F2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FD99-6B64-4615-8BAF-1C5401D4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A4B2F-1D5B-4760-8A5C-98AC745D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4D759-0204-4829-89E8-C779521E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7FA54-7F20-4C86-8E10-5A810591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364F4-E7F4-456E-AF68-1CEE33FC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1979E-5FDA-495E-8168-FF9FE6D4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A1A30-7F92-46C0-B169-E391546C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C1EA7-9132-4D1E-A813-D1344096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627BA-AD51-442F-9C2F-B3541554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BCF36-8283-49EE-8536-A50068CC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CF838-F602-4BCE-A195-A8266B29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B671-8D20-4D65-B91B-239CF944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20A74-6D03-43EB-A5C7-D332900D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34147-6F4C-45BC-A461-D1B71571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DE71D-ED59-4DBA-A709-FD93E8B5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D62BB-DDBF-4DEF-97F8-7AF2517F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EB538-72E1-42C7-9013-EF3CE386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E39F3-F797-4B82-8FB9-BF7E3477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DD2C1-5D07-4801-A66D-1AF68624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C836E-1706-4F4C-B4D8-5CF8CB14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3BDD5-2EEB-4A3E-8F9B-C03E9862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64933-CA33-45B2-AEAA-8EC91FEF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F127-E354-4CC3-A17A-77D811AD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19F1E-9695-467B-9EB6-F56A45E9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2CEDF-CDD2-4960-A589-61B3BFFF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BA51D-BDF6-460C-9E60-1B45C7BF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A42BA-4768-4C99-8A45-8042AB14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126CD-0F6E-40A9-BE92-38A116B6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77A0D-E25F-4665-A8C7-9DFF5A7A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AB18E-9B68-4A9F-917B-B2B38E66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C7CB0-D9DF-4B20-B4C5-CB5E789B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F6471-4201-4DE3-8BDC-6851280F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DF9FA-92B7-4A72-873C-FD350FF2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FA36-54DB-42BB-8F5A-733349D3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D2EB9-7646-42F7-9C47-7E60FD49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58093-8FA7-43B1-B1B4-0158DA5B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E233C-CAD6-48DA-BC31-13DD9FB7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9B0FF-DA3A-447F-B29A-701B1F98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16DF0-B229-4816-BDF6-4363F0E3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64375-C4B6-4269-B37D-2D4E021E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E3BE2-9CDD-4C54-9960-D26C2676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CE603-FBAE-447B-A530-145256E1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F46D0-905A-4226-95B4-A215417E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58697-B3BB-4268-B34A-73391445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D047-672B-4997-A890-AC4F1FA7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BAADF-D986-4B06-8384-D6C85F11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9CA39-374B-4D57-9263-C2D6A19C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FC7BD-C926-4E52-A2A9-AB075212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725BD-540F-429E-8C9A-C98BBB00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C1E14-3C5B-4FC7-8941-9DEE011A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472E2-B37F-4B8B-AD33-6BB568A7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D6704-A699-4019-81FE-D6473B4E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A6226-44DF-4F40-9D44-A78ECEBD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DB067-DADC-4B71-BD32-B0930AE3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F9208-4C7A-49FB-817D-96A33F80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867A-A20F-4981-8FDC-58199C505D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528C-B772-47D9-841E-D439F8CB15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904C-11B5-4698-B62C-58ADF8DB4D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02F6-E8EC-4AE1-8BA6-6479F9E7B0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375C-B1AC-4AAE-889E-920027168C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D633-661E-46EE-BE58-8C99D30EA4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D93C-502F-42E6-816B-813F484B43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CCEE-D490-4BAE-B155-A9E7CCB8A0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ACC6-0403-4EC8-B635-A58486EB42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2226-C13E-46B5-992F-5650B41969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2AAE-3CD0-4628-BA82-F8FE21AD08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21F8-1E12-4651-ABEF-46DE3CEEA9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CAC2-9225-46FD-81FE-9191D0B153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3905-A4C9-4E78-B13C-67744A1E12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7FDA-1E95-455F-810C-89DBA11DA3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B549-B2FD-425E-AE0E-1D54732469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0BDC-FAF8-436B-BF43-5599DCC13E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2E19-508C-4166-B8AB-7DD3FDAEBC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69E7-3EF5-4D56-957D-A74AFF42C2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E240-605A-4427-B9CC-31458EBBD4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BC0C-A1CC-4DFD-A90A-0BA965267C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63F2-8707-46A9-848D-3E45D4BDAF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D89F-F430-4FB4-ACB0-6BCB940FB3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5760-868E-4DD1-9DAD-F1C38D2AA3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DC0A-BA0B-4E89-86A7-767C62052B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1816-58CD-419D-8E91-87DECBB129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B199-E65A-4AEC-8DB5-E362D06F17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75C8-FD01-43A6-AF9D-5E631C44B3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5862-8C46-4779-8918-1808F0543F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8E90-56E8-4C2B-97C5-71D896643D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56A6-E380-4352-BB39-034BCD10EF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1527-CF13-4D9A-AA68-4677D68CCD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CF00-927C-4BB6-9B1F-32DD753B3E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3884-A7B3-43FE-A41D-3718A593C3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FACC-361E-4DCF-A2BA-754E49CB8A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B948-267D-4743-BA3B-3FBB176451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9807-94CD-4D95-9982-C0112DC1CC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6034-90C1-44F9-83E6-6B2B968B5F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DCF7-5ADA-4FB0-A55F-6148942485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95F9-753B-4B7D-8440-CABDCA162F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8534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图片 52231" descr=""/>
          <p:cNvPicPr/>
          <p:nvPr/>
        </p:nvPicPr>
        <p:blipFill>
          <a:blip r:embed="rId1"/>
          <a:stretch/>
        </p:blipFill>
        <p:spPr>
          <a:xfrm>
            <a:off x="281160" y="95400"/>
            <a:ext cx="8581680" cy="66672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2"/>
          <a:stretch/>
        </p:blipFill>
        <p:spPr>
          <a:xfrm>
            <a:off x="1576440" y="324180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3"/>
          <a:stretch/>
        </p:blipFill>
        <p:spPr>
          <a:xfrm>
            <a:off x="2700360" y="324180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4"/>
          <a:stretch/>
        </p:blipFill>
        <p:spPr>
          <a:xfrm>
            <a:off x="3836880" y="3241800"/>
            <a:ext cx="432000" cy="3585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5"/>
          <a:stretch/>
        </p:blipFill>
        <p:spPr>
          <a:xfrm>
            <a:off x="1590840" y="4221000"/>
            <a:ext cx="431640" cy="3589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6"/>
          <a:stretch/>
        </p:blipFill>
        <p:spPr>
          <a:xfrm>
            <a:off x="2714760" y="4221000"/>
            <a:ext cx="431640" cy="35892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7"/>
          <a:stretch/>
        </p:blipFill>
        <p:spPr>
          <a:xfrm>
            <a:off x="3851280" y="4221000"/>
            <a:ext cx="431640" cy="3589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8"/>
          <a:stretch/>
        </p:blipFill>
        <p:spPr>
          <a:xfrm>
            <a:off x="1590840" y="518652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9"/>
          <a:stretch/>
        </p:blipFill>
        <p:spPr>
          <a:xfrm>
            <a:off x="2714760" y="518652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0"/>
          <a:stretch/>
        </p:blipFill>
        <p:spPr>
          <a:xfrm>
            <a:off x="3851280" y="518652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1"/>
          <a:stretch/>
        </p:blipFill>
        <p:spPr>
          <a:xfrm>
            <a:off x="1590840" y="617868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12"/>
          <a:stretch/>
        </p:blipFill>
        <p:spPr>
          <a:xfrm>
            <a:off x="2714760" y="617868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13"/>
          <a:stretch/>
        </p:blipFill>
        <p:spPr>
          <a:xfrm>
            <a:off x="3851280" y="6178680"/>
            <a:ext cx="431640" cy="3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5200" y="1333440"/>
            <a:ext cx="8553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59411" descr=""/>
          <p:cNvPicPr/>
          <p:nvPr/>
        </p:nvPicPr>
        <p:blipFill>
          <a:blip r:embed="rId1"/>
          <a:stretch/>
        </p:blipFill>
        <p:spPr>
          <a:xfrm>
            <a:off x="1469880" y="569880"/>
            <a:ext cx="6486840" cy="61722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1835280" y="66348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1692360" y="1370160"/>
            <a:ext cx="518472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1762200" y="2075040"/>
            <a:ext cx="518472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1619280" y="2781360"/>
            <a:ext cx="518472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1619280" y="3486240"/>
            <a:ext cx="5184720" cy="447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1762200" y="489744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1619280" y="560376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1619280" y="6308640"/>
            <a:ext cx="5184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76802" descr=""/>
          <p:cNvPicPr/>
          <p:nvPr/>
        </p:nvPicPr>
        <p:blipFill>
          <a:blip r:embed="rId1"/>
          <a:stretch/>
        </p:blipFill>
        <p:spPr>
          <a:xfrm>
            <a:off x="585720" y="1014480"/>
            <a:ext cx="7972560" cy="4829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971640" y="1787400"/>
            <a:ext cx="5688000" cy="4892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900000" y="2492280"/>
            <a:ext cx="5688000" cy="4888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971640" y="3228840"/>
            <a:ext cx="5688000" cy="4892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900000" y="3933720"/>
            <a:ext cx="5688000" cy="4888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826920" y="4538520"/>
            <a:ext cx="7848720" cy="4892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7"/>
          <a:stretch/>
        </p:blipFill>
        <p:spPr>
          <a:xfrm>
            <a:off x="755640" y="5243400"/>
            <a:ext cx="784872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8373" descr=""/>
          <p:cNvPicPr/>
          <p:nvPr/>
        </p:nvPicPr>
        <p:blipFill>
          <a:blip r:embed="rId1"/>
          <a:stretch/>
        </p:blipFill>
        <p:spPr>
          <a:xfrm>
            <a:off x="438120" y="1552680"/>
            <a:ext cx="82677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7352" descr=""/>
          <p:cNvPicPr/>
          <p:nvPr/>
        </p:nvPicPr>
        <p:blipFill>
          <a:blip r:embed="rId1"/>
          <a:stretch/>
        </p:blipFill>
        <p:spPr>
          <a:xfrm>
            <a:off x="1676520" y="966960"/>
            <a:ext cx="5790960" cy="49240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1763640" y="1066680"/>
            <a:ext cx="5832720" cy="5050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1763640" y="1743120"/>
            <a:ext cx="5832720" cy="5047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1763640" y="2465280"/>
            <a:ext cx="5832720" cy="5050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1763640" y="3141720"/>
            <a:ext cx="5832720" cy="5047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6"/>
          <a:stretch/>
        </p:blipFill>
        <p:spPr>
          <a:xfrm>
            <a:off x="1692360" y="3905280"/>
            <a:ext cx="5832360" cy="5047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7"/>
          <a:stretch/>
        </p:blipFill>
        <p:spPr>
          <a:xfrm>
            <a:off x="1692360" y="4581360"/>
            <a:ext cx="5832360" cy="5050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8"/>
          <a:stretch/>
        </p:blipFill>
        <p:spPr>
          <a:xfrm>
            <a:off x="1547640" y="5229360"/>
            <a:ext cx="2737080" cy="5047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9"/>
          <a:stretch/>
        </p:blipFill>
        <p:spPr>
          <a:xfrm>
            <a:off x="4500720" y="5243400"/>
            <a:ext cx="27367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6324" descr=""/>
          <p:cNvPicPr/>
          <p:nvPr/>
        </p:nvPicPr>
        <p:blipFill>
          <a:blip r:embed="rId1"/>
          <a:stretch/>
        </p:blipFill>
        <p:spPr>
          <a:xfrm>
            <a:off x="1015920" y="1019160"/>
            <a:ext cx="7372440" cy="5505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5832720" cy="4795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1619280" y="2421000"/>
            <a:ext cx="5832360" cy="4795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1476360" y="3083040"/>
            <a:ext cx="5832360" cy="4791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1547640" y="3803760"/>
            <a:ext cx="5832720" cy="4791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6"/>
          <a:stretch/>
        </p:blipFill>
        <p:spPr>
          <a:xfrm>
            <a:off x="1476360" y="4451400"/>
            <a:ext cx="5832360" cy="4795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7"/>
          <a:stretch/>
        </p:blipFill>
        <p:spPr>
          <a:xfrm>
            <a:off x="1547640" y="5172120"/>
            <a:ext cx="5832720" cy="4795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8"/>
          <a:stretch/>
        </p:blipFill>
        <p:spPr>
          <a:xfrm>
            <a:off x="1332000" y="5891040"/>
            <a:ext cx="2376360" cy="4795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9"/>
          <a:stretch/>
        </p:blipFill>
        <p:spPr>
          <a:xfrm>
            <a:off x="3851280" y="5877000"/>
            <a:ext cx="36734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5300" descr=""/>
          <p:cNvPicPr/>
          <p:nvPr/>
        </p:nvPicPr>
        <p:blipFill>
          <a:blip r:embed="rId1"/>
          <a:stretch/>
        </p:blipFill>
        <p:spPr>
          <a:xfrm>
            <a:off x="276120" y="1243080"/>
            <a:ext cx="85917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54276" descr=""/>
          <p:cNvPicPr/>
          <p:nvPr/>
        </p:nvPicPr>
        <p:blipFill>
          <a:blip r:embed="rId1"/>
          <a:stretch/>
        </p:blipFill>
        <p:spPr>
          <a:xfrm>
            <a:off x="590400" y="1090440"/>
            <a:ext cx="7963200" cy="46771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611280" y="1139760"/>
            <a:ext cx="5905440" cy="4795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611280" y="1801800"/>
            <a:ext cx="5905440" cy="4795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539640" y="2550960"/>
            <a:ext cx="5905440" cy="4795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539640" y="3213000"/>
            <a:ext cx="5905440" cy="4795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468360" y="3919680"/>
            <a:ext cx="5905440" cy="4791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468360" y="4581360"/>
            <a:ext cx="8207280" cy="4795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395280" y="5300640"/>
            <a:ext cx="820728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03:30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